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14.png" ContentType="image/png"/>
  <Override PartName="/ppt/media/image17.gif" ContentType="image/gif"/>
  <Override PartName="/ppt/media/image3.png" ContentType="image/png"/>
  <Override PartName="/ppt/media/image15.gif" ContentType="image/gif"/>
  <Override PartName="/ppt/media/image1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gif" ContentType="image/gif"/>
  <Override PartName="/ppt/media/image13.gif" ContentType="image/gi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0EE-71DF-4DD0-8E5B-57C3208B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B90-F34B-4B17-8B3C-4B64C42E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DBB-5FC3-4CF2-A308-16657B59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088-C740-4EA6-8451-32864ADC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A615-E1D4-4FEA-A5DF-595A3419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20D4-989D-4E16-8BCA-48F1C07D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F8CC-54D9-43C5-831A-8565A51B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0EA4-6319-43F9-B1C5-2D4FF7A7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EF1D-5902-4E1C-BA6B-79D97D37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2845-D37A-4EEC-B278-4EBB7083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0687-514B-40F4-906F-9BBEC27A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490-D941-4F03-9AD9-B2B43A85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D64D-8C32-470C-B370-9F392FC0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A399-326B-46CC-9977-0C871B41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1DDB-33D6-46E6-A9C9-3CA3E7F0E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F7F10-DDD5-4BA8-BBE5-E957FE5B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1FA3-4CFD-45B0-9F46-F88B96F70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AD9A-C271-4A62-83F0-8ECD276D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DF97-FB5A-421A-8DAF-2D0C8E13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709-AE5C-42B4-8669-1D7CD0DB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D56-8C5A-4AA2-8F53-B2AF025C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5B9-BBA7-49E0-8D65-7B04FBEF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78E-3D33-48AF-9A33-3C8A749A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BFCC-F00E-4793-9F82-CD138983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182C-D406-4991-885A-49401F229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 rot="20256000">
            <a:off x="7619760" y="5791320"/>
            <a:ext cx="1218960" cy="79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0320" y="990720"/>
            <a:ext cx="137160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11360" y="990720"/>
            <a:ext cx="1371600" cy="1295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92400" y="990720"/>
            <a:ext cx="1371600" cy="1295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86400" y="988920"/>
            <a:ext cx="1371600" cy="1295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83280" y="979560"/>
            <a:ext cx="1371600" cy="1295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88080" y="992160"/>
            <a:ext cx="1371600" cy="12952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7467480" y="5181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95CD-3327-4620-8976-7DFCCD533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07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ОФИЧЕСКАЯ СТРУКТУРА СООБЩ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15400" y="4017600"/>
            <a:ext cx="61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ы в биогеоценозе приспособл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уг к другу настолько, что их сообщ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ставляет системное цел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ы пищевых цепей, начинающиеся с фотосинтезирующих организмов, носят названи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астбищных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и цепей выедан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ип пищевых цепей, начинающихся с отмерших остатков растений, трупов и экскрементов животных, относят к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тритным пищевым цепям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цепям разложения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на основе анализа текста, постройте пищевые цепи, состоящую из организмов, упомянутых в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Хулиганы-воробьишки – превосходные вори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 зерно лишь подавай – поуменьшат урож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т китайцы подсчитали, сколько зерен потеря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издали свой декрет – воробьев свести на н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ебили всех подряд, ждут – каков же результа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началу, в самом деле, закрома их пополн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 потом пришла беда – отворяйте воро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 посевы, урожай насекомые сож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х в таком большом числе прежде не было ниг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азалось, воробьята не едят совсем зерна-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 родители с полей тащут мошек и черв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ало тут властям понятно – надо птиц вернуть обрат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пришлось им воробьев из чужих вести кра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сли все с плеча рубить, можно дело загубить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на основе анализа текста, постройте пищевые цепи, состоящую из организмов, упомянутых в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36831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у что же, подведем балан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б в стихотворном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косистему юный г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четливей уви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на система пот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то в ней по форме стро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обходимый всем проду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дет своей доро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кто системе служит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Живет себе, не туж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22600" y="3492720"/>
            <a:ext cx="3592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т на зеленый стебел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адится пестрый мотыле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пил нектар со всех цвет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х опылил – и в путь г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тут попался – Боже мой!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 завтрак птице луг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 у нее гнездо в тра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куча птенчиков в гнез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И уж, конечно, их пом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итание траве д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ЕБНЫЙ МОЗГОВОЙ ШТУР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Задача Чарльза Дарв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4652640"/>
            <a:ext cx="5219640" cy="17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какая существует связь между числом старых дев, проживающих в Англии, и удоем коров (количеством молока, которое дают коровы)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5080" y="1700280"/>
            <a:ext cx="3054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днажды англич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метили, что 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астет пшеница гуще 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де проживает больше д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чтенных старых ле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Что больше всех на св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ботятся о кошках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058640" y="1773360"/>
            <a:ext cx="337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думай-ка немножк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вот загадка реш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вет у ловкого ко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ышей переловил дав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 мыши что едят? – Зер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почку разглядишь не сра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 то наука есть и разум.      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М. Х. Левитман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57760" y="5084640"/>
            <a:ext cx="3486240" cy="163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ЕБНЫЙ МОЗГОВОЙ ШТУР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Задача Чарльза Дарв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2059200"/>
            <a:ext cx="78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Постройте пищевые цепи на основе текста решения зада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07520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как вы думаете, какое значение имеют пищевые сети в природе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§ 5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550px-9_5_22_5" descr="&amp;Scy;&amp;tcy;&amp;rcy;&amp;ucy;&amp;kcy;&amp;tcy;&amp;ucy;&amp;rcy;&amp;acy; &amp;dcy;&amp;vcy;&amp;ucy;&amp;khcy; &amp;tcy;&amp;icy;&amp;pcy;&amp;ocy;&amp;vcy; &amp;scy;&amp;ocy;&amp;ocy;&amp;bcy;&amp;shchcy;&amp;iecy;&amp;scy;&amp;tcy;&amp;vcy;"/>
          <p:cNvPicPr/>
          <p:nvPr/>
        </p:nvPicPr>
        <p:blipFill>
          <a:blip r:embed="rId1"/>
          <a:stretch/>
        </p:blipFill>
        <p:spPr>
          <a:xfrm>
            <a:off x="5292720" y="1413000"/>
            <a:ext cx="3381480" cy="4114800"/>
          </a:xfrm>
          <a:prstGeom prst="rect">
            <a:avLst/>
          </a:prstGeom>
          <a:ln w="6480">
            <a:solidFill>
              <a:srgbClr val="969696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468360" y="2133720"/>
            <a:ext cx="4402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дание: проанализируйте рис. 63 стр. 156 и выявите различия и сходства надземной и водной экосист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195640" y="2060640"/>
            <a:ext cx="540072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на уроке было главн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было интересны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 вы узнали нового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ему вы научили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2421000" cy="2852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4033800" cy="475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3860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Что является важным показателем разнообразия условий жизни организмов в сообще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76500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ие факторы увеличивают видовое разнообразие в сообще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21337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кие свойства сообщества характеризуют разнообразие вид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ПОСОБЫ ПИТАНИЯ ОРГАНИЗМ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1197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вт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1280" y="119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икс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88000" y="11970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тер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191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ем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1916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от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2708280"/>
            <a:ext cx="1513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бер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лорел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порот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692360" y="2637000"/>
            <a:ext cx="151272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итрифици-ру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кте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3141720"/>
            <a:ext cx="1512720" cy="11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эвглена зеле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рос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1916280"/>
            <a:ext cx="18000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втотроф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етеротроф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9079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9079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80360" y="9079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4292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628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852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2349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2349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16436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протроф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04000" y="3716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раз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4508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хищ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479736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авоя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4360" y="2492280"/>
            <a:ext cx="151308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ждевой чер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к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4365720"/>
            <a:ext cx="1871640" cy="13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уберкулезная пал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рут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6720" y="5229360"/>
            <a:ext cx="15130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едв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373720"/>
            <a:ext cx="1512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л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85080" y="1557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227664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1628640"/>
            <a:ext cx="0" cy="2016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80360" y="4149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156360" y="1628640"/>
            <a:ext cx="720720" cy="273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96000" y="501336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932000" y="1628640"/>
            <a:ext cx="1655640" cy="3024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67280" y="515772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345440" cy="4665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2997000"/>
            <a:ext cx="843588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ясните, что означает стрелка между редуцентами и продуцен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ет ли энергия передаваться по замкнутому круг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то произойдёт, если Солнце перестанет существов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620640"/>
            <a:ext cx="8820360" cy="1141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ищевая цеп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– это последовательность организмов, в которой каждый из них съедает или разлагает друг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ждое звено пищевой цепи называют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рофическим уровне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564000" y="4437000"/>
            <a:ext cx="1008000" cy="781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227640" y="3933720"/>
            <a:ext cx="1727280" cy="1943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050920" y="4797360"/>
            <a:ext cx="122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48360" y="4797360"/>
            <a:ext cx="1225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ИЩЕВЫЕ ЦЕ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ав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заяц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вол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к розового кус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тл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божья коров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пау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секомоядная пт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хищная п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960" y="4651920"/>
            <a:ext cx="49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что объединяет эти цеп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ИЩЕВЫЕ ЦЕП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стовая подстил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ждевой черв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черный дроз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ястреб-перепеля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ртвое животно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личинки падальных му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травяная лягушк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обыкновенный у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скременты животных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уки-навозник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пт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83200"/>
            <a:ext cx="77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прос: чем они принципиально отличаются от цепей первой группы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7632720" cy="5340240"/>
          </a:xfrm>
          <a:prstGeom prst="rect">
            <a:avLst/>
          </a:prstGeom>
          <a:ln w="6480">
            <a:solidFill>
              <a:srgbClr val="c0c0c0"/>
            </a:solidFill>
            <a:miter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4:27:13Z</dcterms:created>
  <dc:creator>Admin</dc:creator>
  <dc:description/>
  <dc:language>en-US</dc:language>
  <cp:lastModifiedBy>Admin</cp:lastModifiedBy>
  <dcterms:modified xsi:type="dcterms:W3CDTF">2013-03-16T03:43:27Z</dcterms:modified>
  <cp:revision>49</cp:revision>
  <dc:subject>биология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